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dt" idx="16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5C5E8-E1BA-4E85-9716-7E8D5131397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A56D7-FEC6-4CBF-91D4-95800A65932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FDD71-8437-424F-9B2E-443CCD8D1E3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61EFA-7487-4553-94AB-8B51F7A6B80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D209-E8B3-426F-A933-DB090C8BF4B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793-7856-48E4-A7E0-D3C5A330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BE8-C03A-41D2-90B7-0A5D255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222-17C2-4121-8E18-F8348FD5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730-8EDA-48E4-86B1-57A4CF88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690F-1D81-4414-B53E-3E3AE480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028F-515E-464C-946B-D28976BD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161F-8F21-4566-AA0B-D2C23F52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043-0FEF-4E43-9FBB-5AAB95D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A62B-80EC-4DB4-85A1-179B0E76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DB36-E93C-4C38-8A85-D1453A2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DFC-90EC-4D74-856D-8B9AA589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5B6-927D-4972-AD71-707AFD6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2AA0-7B8B-41D2-8C73-82AA70C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7A3C-6D9C-4008-9A19-2CDD4FB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6DAF-3F5A-4C4D-8679-FD74FDB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F2A-4463-4AE5-AA9C-B6FF8CA1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38E5-282F-42F7-9B23-FD284DE4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7A860-B693-4510-A9B7-573F55CD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9960A-045F-49E3-AB5E-84C43869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27F70-56EE-49B0-AA8A-1C2F06F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A8219-6E8F-4A15-BE53-6972F72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253C2-739B-4F4B-BC78-ABA45E4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953-D988-4E76-A35B-B6459C3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5FB73-3EA0-4D02-850B-8102097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A6B69-952A-4D07-AFDD-76236FF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4AF9E-6E36-4F9C-B972-E1501BD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C5A03-E34B-4D31-8233-1756A8D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51E72-121A-4308-A5EE-23C78625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43BB0-94EC-4184-98A6-A59AF3DE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61344-FD41-41F1-B717-E1C48A5A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78F3-8EAA-45E0-BF3D-DDC97E6A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8D1F-DA1E-42D6-93B4-30CBA13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DCF-6406-4FB9-A458-64790F5C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34A-E563-4890-99E1-B9ADC59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B505-A31E-4EC7-862A-B2125C6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A5E0-BD64-4E51-8572-21702B27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9A42-C2DF-4BBE-8360-DDF05224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6966-B0D9-4FEA-8BE1-7031D39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B247-D24F-43B7-B020-6079E053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4687-DA0A-44F8-B543-49A6E4A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AB9E-8C20-4033-ABD5-708A4DD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9F59-3F3D-46E0-BBB7-EAEF4C4C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7BE9-122E-4CFD-B1F2-E6EF539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6169-37EE-4AAE-B35D-ED16729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6EE-7F03-4A34-9CE1-E000237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2D97-78F5-4511-B149-181371D7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0894-6523-4B8B-A527-2FB83AA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73E3-AC86-40C8-9CA8-1CA5C69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1764-23ED-4C5A-A85E-E043419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D036-67B7-4B8E-AC5C-7A3B2AF6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3EAE-9ED3-47AF-B4CD-B849ED8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557C-61B2-49F1-94B6-C79FC8E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35DB-5E44-4899-A311-8EF38CF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922A-5418-4476-BE23-864BBC75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D575-A6F3-49F1-868A-2B3EF9B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C1B-8345-44F8-B9C6-5496B89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9B052-E2B0-4B09-AE46-EFB1B67F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B04-9417-4F93-A729-0FC5C69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936-5867-4652-A1DC-D70EC35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80-DC3B-484B-8DFF-9BD5960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626040" y="-360"/>
            <a:ext cx="11530800" cy="7845840"/>
            <a:chOff x="-626040" y="-360"/>
            <a:chExt cx="11530800" cy="7845840"/>
          </a:xfrm>
        </p:grpSpPr>
        <p:grpSp>
          <p:nvGrpSpPr>
            <p:cNvPr id="1" name="Group 44"/>
            <p:cNvGrpSpPr/>
            <p:nvPr/>
          </p:nvGrpSpPr>
          <p:grpSpPr>
            <a:xfrm>
              <a:off x="84960" y="-360"/>
              <a:ext cx="10081080" cy="7560000"/>
              <a:chOff x="84960" y="-360"/>
              <a:chExt cx="10081080" cy="7560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4960" y="0"/>
                <a:ext cx="2772360" cy="7559640"/>
                <a:chOff x="84960" y="0"/>
                <a:chExt cx="2772360" cy="7559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10929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849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369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51160" y="0"/>
                <a:ext cx="2772360" cy="7559640"/>
                <a:chOff x="551160" y="0"/>
                <a:chExt cx="2772360" cy="7559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5591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511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8031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7393680" y="-360"/>
                <a:ext cx="2772360" cy="7559640"/>
                <a:chOff x="7393680" y="-360"/>
                <a:chExt cx="2772360" cy="7559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739368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966204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907416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428544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327744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52944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7164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7164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868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7164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44152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38796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418608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419652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36672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500508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3660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1124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4292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94104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74960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7704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96192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758844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840780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840780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924300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924336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503280" y="368280"/>
            <a:ext cx="9074160" cy="681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5029200" y="-23760"/>
            <a:ext cx="4054320" cy="7714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116680" y="6451560"/>
            <a:ext cx="38606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099E5D-89F4-4B8E-BD28-9BFA76516C91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84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126040" y="-23760"/>
            <a:ext cx="3863880" cy="25495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5223960" y="1671480"/>
            <a:ext cx="2351160" cy="82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846760" y="6305400"/>
            <a:ext cx="3121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5125680" y="6305400"/>
            <a:ext cx="7095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02F2A-A7ED-4241-8E31-444051462AD0}" type="slidenum">
              <a:rPr b="0" lang="pt-BR" sz="13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98640" y="663480"/>
            <a:ext cx="3927240" cy="622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07D54B-9DD5-45C4-B227-61FADB8E2989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5116680" y="6310440"/>
            <a:ext cx="38512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98640" y="663480"/>
            <a:ext cx="3927240" cy="62262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5116680" y="6310440"/>
            <a:ext cx="38512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E7C138-FDC7-46F1-BE85-3AF3A543166A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626040" y="-360"/>
            <a:ext cx="11530800" cy="7845840"/>
            <a:chOff x="-626040" y="-360"/>
            <a:chExt cx="11530800" cy="7845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84960" y="-360"/>
              <a:ext cx="10081080" cy="7560000"/>
              <a:chOff x="84960" y="-360"/>
              <a:chExt cx="10081080" cy="7560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84960" y="0"/>
                <a:ext cx="2772360" cy="7559640"/>
                <a:chOff x="84960" y="0"/>
                <a:chExt cx="2772360" cy="755964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10929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849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369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51160" y="0"/>
                <a:ext cx="2772360" cy="7559640"/>
                <a:chOff x="551160" y="0"/>
                <a:chExt cx="2772360" cy="755964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5591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511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8031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7393680" y="-360"/>
                <a:ext cx="2772360" cy="7559640"/>
                <a:chOff x="7393680" y="-360"/>
                <a:chExt cx="2772360" cy="755964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739368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966204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907416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428544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327744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52944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7164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7164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868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7164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44152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38796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418608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419652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36672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500508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3660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1124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4292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94104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74960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7704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96192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758844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840780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840780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924300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924336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503280" y="368280"/>
            <a:ext cx="9074160" cy="681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5029200" y="-23760"/>
            <a:ext cx="4054320" cy="7714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EE0E66-62D6-4D0E-9AC7-BA8F2B8582F4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TEMA 25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76000" y="176364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EE ERNESTO SOLON BORG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BANDEIRANTES – M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OGETEC: RAUL C. NUN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Century Gothic"/>
              </a:rPr>
              <a:t>POSSIBILIDADES DE AVALIAÇÃO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2920" y="161928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6640" bIns="50400" anchor="t">
            <a:normAutofit fontScale="84000"/>
          </a:bodyPr>
          <a:p>
            <a:pPr marL="362520" indent="-271800" algn="just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Com uma simples planilha de cálculo pode-se gerenciar a maioria dos dados numéricos e registros de avaliação e tarefas dos alunos. Isso pode ser feito coletando-se esses dados em classe e depois digitando-se os mesmos no seu computador ou diretamente em um notebook que pode ser levado para a sala de aula: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2520" indent="-271800" algn="just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Como muitos professores ainda mantém apenas registros em papel, e nem sempre têm suas cadernetas atualizadas, a criação de meios digitais de armazenamento de dados, onde essas informações possam ser compartilhada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AVALIAÇÕES QUE ACORRERAM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6640" bIns="504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AVALIAÇÃO INSTITUCIONAL: SAIEM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É-CONSELHO DE CLASSE: ALUNOS RESPONDERAM UM QUESTIONÁRIO ATRAVÉS DO GOOGLE.DOC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GRÁFICOS DE DESEMPENHO DOS ALUNOS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GRÁFICOS DE UTILIZAÇÃO DA STE.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70920" cy="9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SUGESTÕES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76000" y="140328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Transferir, aos poucos, os registros feitos em papel para o formato digital, usando documentos de texto e planilhas eletrônicas. Compartilhar com os colegas as suas ideias, planilhas e outros documentos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ocurar informações na internet e dedicar em média uma hora diária para a aprendizagem e sugestões sobre o uso das tecnologias.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Disponibilizar horários específicos nas reuniões pedagógicas da escola para formação dos professores e promover oficinas pedagógicas tratando do uso das tecnologia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20:38:58Z</dcterms:created>
  <dc:creator>Eliane Neves</dc:creator>
  <dc:description/>
  <dc:language>en-US</dc:language>
  <cp:lastModifiedBy>ElianeRaul</cp:lastModifiedBy>
  <dcterms:modified xsi:type="dcterms:W3CDTF">2015-08-31T23:59:38Z</dcterms:modified>
  <cp:revision>1</cp:revision>
  <dc:subject/>
  <dc:title>TEMA 25</dc:title>
</cp:coreProperties>
</file>